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22B-2DA5-4E77-A8B6-63D30F98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B1D-D075-426B-8898-87C4738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903-15EF-444A-A983-86374F8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D22-4395-4276-B3A0-0FE6CCB7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43-3637-46AA-AF91-76D5ED3F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09D-D339-4F08-94EA-7D82DEC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7CD-6D44-4003-BACF-854A2D20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C71-3FA1-458B-BD41-2DCF0FC2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BE4-E311-47B5-8365-F04B5747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433-6218-447D-9417-73A0BE8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A3D-B10B-4190-8123-8E6F5B4B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F17-0B0D-42BD-B8E5-61162FE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9C15-5FFE-4940-997E-FDD061A89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abatha C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505320" y="457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6668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polis.bmp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743200" y="457200"/>
            <a:ext cx="266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90720" y="1371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philoserphy.bmp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3124080" y="380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pen.bmp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21337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743200" y="685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828800" y="1447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Spar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pelo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048120" y="838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1600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oligarchy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657600" y="5335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057400" y="1219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abor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cropolis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6" descr="agora.jpg"/>
          <p:cNvPicPr/>
          <p:nvPr/>
        </p:nvPicPr>
        <p:blipFill>
          <a:blip r:embed="rId1"/>
          <a:stretch/>
        </p:blipFill>
        <p:spPr>
          <a:xfrm>
            <a:off x="14400" y="1676520"/>
            <a:ext cx="91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429000" y="3049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1981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 on issues that 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ssembly.bmp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7339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52480" y="10666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itizen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505320" y="304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lony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819520" y="457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emoxcy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733920" y="4572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jury.bmp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52480" y="1600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onarchy.bmp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3T00:36:00Z</dcterms:modified>
  <cp:revision>93</cp:revision>
  <dc:subject/>
  <dc:title>Ancient Greece</dc:title>
</cp:coreProperties>
</file>